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9E2E-9E75-4D6B-A2AC-853B492C41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2ED-112C-41C6-A397-91C70BBCCA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B08-C083-4C74-B8E9-30E378D492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1B4-1A8E-4B54-9918-56387BF063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AE7-3A12-4D55-8BCB-97892B9311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8571-EBCF-49F9-BA9D-E813A1AC62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B39-2335-438E-ABF3-C5F5EDFE59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931C-48A2-4C0F-BBD1-316D84A99A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FB4-87B4-417A-B6BB-E61ADFAB77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731-78C1-4F9B-9B83-8F606221E0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BB5A-AFDF-4E88-8AAD-3564D0A6F6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EF65-5249-4345-B58D-DF23058023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137-7B72-4702-9FB4-D07BFAFB55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EFB-B421-4B88-8C0E-2375499500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E945-AC8B-4756-ABB9-C05676F89A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EC8-CF03-41F6-888B-0DF7C1F53C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28E-A820-4C1B-B8F4-0AFF32AEFE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852-2936-471F-8E85-46BCE91456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5C78-152B-4846-8BAA-DF09D3C914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orld War I through 1917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10" descr="hsus_ch19_s1_WWIMap"/>
          <p:cNvPicPr/>
          <p:nvPr/>
        </p:nvPicPr>
        <p:blipFill>
          <a:blip r:embed="rId1"/>
          <a:stretch/>
        </p:blipFill>
        <p:spPr>
          <a:xfrm>
            <a:off x="2286000" y="2971800"/>
            <a:ext cx="4495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6"/>
          <p:cNvSpPr/>
          <p:nvPr/>
        </p:nvSpPr>
        <p:spPr>
          <a:xfrm flipH="1" rot="5400000">
            <a:off x="1218960" y="1066320"/>
            <a:ext cx="3809880" cy="5029200"/>
          </a:xfrm>
          <a:prstGeom prst="upArrowCallout">
            <a:avLst>
              <a:gd name="adj1" fmla="val 20845"/>
              <a:gd name="adj2" fmla="val 18875"/>
              <a:gd name="adj3" fmla="val 19666"/>
              <a:gd name="adj4" fmla="val 4690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5638680" y="2451240"/>
            <a:ext cx="28195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ssassination triggered a chain of events that drew two sets of allies into a bloody confli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080" y="2003400"/>
            <a:ext cx="35053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June 28, 1914, Serb nationalists assassinated the heir to the throne of Austria-Hungary, Archduke,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rancis Ferdin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66720" y="1219320"/>
            <a:ext cx="77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urope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alliance system caused the conflict to spread quickly, creating two main combat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653080" y="42670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Central Pow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ed German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Austria-Hung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638680" y="25146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llied Pow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ed Britain, France, Russia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Serb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hsus_ch19_s1_WWIMap"/>
          <p:cNvPicPr/>
          <p:nvPr/>
        </p:nvPicPr>
        <p:blipFill>
          <a:blip r:embed="rId1"/>
          <a:stretch/>
        </p:blipFill>
        <p:spPr>
          <a:xfrm>
            <a:off x="466560" y="2162160"/>
            <a:ext cx="51343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2"/>
          <p:cNvSpPr/>
          <p:nvPr/>
        </p:nvSpPr>
        <p:spPr>
          <a:xfrm>
            <a:off x="457200" y="1600200"/>
            <a:ext cx="4038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invaded Belgi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, a neutral country, to attack Fra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German advance was stopped about 30 miles from Par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bogged down as both sides dug a long series of trenches, creating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3088122_edit"/>
          <p:cNvPicPr/>
          <p:nvPr/>
        </p:nvPicPr>
        <p:blipFill>
          <a:blip r:embed="rId1"/>
          <a:stretch/>
        </p:blipFill>
        <p:spPr>
          <a:xfrm>
            <a:off x="4572000" y="2125800"/>
            <a:ext cx="388620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1"/>
          <p:cNvSpPr/>
          <p:nvPr/>
        </p:nvSpPr>
        <p:spPr>
          <a:xfrm>
            <a:off x="5943600" y="4495680"/>
            <a:ext cx="3200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5867280" y="265284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either side could overcome the oth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fenses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stalemate quickly develop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57200" y="11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era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adly defensive weapons made attacks difficult and dangero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37" descr="HSUS_ch19_s1_WeaponsChart"/>
          <p:cNvPicPr/>
          <p:nvPr/>
        </p:nvPicPr>
        <p:blipFill>
          <a:blip r:embed="rId1"/>
          <a:stretch/>
        </p:blipFill>
        <p:spPr>
          <a:xfrm>
            <a:off x="533520" y="2292480"/>
            <a:ext cx="5048280" cy="35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533520" y="1600200"/>
            <a:ext cx="3124080" cy="3048120"/>
          </a:xfrm>
          <a:prstGeom prst="rect">
            <a:avLst/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657600" y="49989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Americans favored one side or the oth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5800" y="1981080"/>
            <a:ext cx="304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the war dragged on in Europe, President Wilson urged Americans to remain neut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2"/>
          <p:cNvSpPr/>
          <p:nvPr/>
        </p:nvSpPr>
        <p:spPr>
          <a:xfrm rot="5400000">
            <a:off x="2057400" y="4419360"/>
            <a:ext cx="990360" cy="1447920"/>
          </a:xfrm>
          <a:custGeom>
            <a:avLst/>
            <a:gdLst>
              <a:gd name="textAreaLeft" fmla="*/ 0 w 990360"/>
              <a:gd name="textAreaRight" fmla="*/ 848880 w 990360"/>
              <a:gd name="textAreaTop" fmla="*/ 96552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038480" y="1752480"/>
            <a:ext cx="472464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ited States had a long tradition of staying out of European confli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Yet one third of Americans had been born in a foreign country and still identified with their homel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0"/>
          <p:cNvSpPr/>
          <p:nvPr/>
        </p:nvSpPr>
        <p:spPr>
          <a:xfrm>
            <a:off x="1066680" y="2057400"/>
            <a:ext cx="7010640" cy="3505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8eae9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362320"/>
          <a:ext cx="6629400" cy="2971800"/>
        </p:xfrm>
        <a:graphic>
          <a:graphicData uri="http://schemas.openxmlformats.org/drawingml/2006/table">
            <a:tbl>
              <a:tblPr/>
              <a:tblGrid>
                <a:gridCol w="2830320"/>
                <a:gridCol w="379908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lation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vored staying out of the w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ention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vored fighting on the Allies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tiona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nted the United States to play a role for peace but not 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36"/>
          <p:cNvSpPr/>
          <p:nvPr/>
        </p:nvSpPr>
        <p:spPr>
          <a:xfrm>
            <a:off x="304920" y="12193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.S. public opinion fell into three main grou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33520" y="1600200"/>
            <a:ext cx="3124080" cy="3048120"/>
          </a:xfrm>
          <a:prstGeom prst="rect">
            <a:avLst/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8"/>
          <p:cNvSpPr/>
          <p:nvPr/>
        </p:nvSpPr>
        <p:spPr>
          <a:xfrm rot="5400000">
            <a:off x="2019240" y="4533840"/>
            <a:ext cx="990360" cy="1218960"/>
          </a:xfrm>
          <a:custGeom>
            <a:avLst/>
            <a:gdLst>
              <a:gd name="textAreaLeft" fmla="*/ 0 w 990360"/>
              <a:gd name="textAreaRight" fmla="*/ 848880 w 990360"/>
              <a:gd name="textAreaTop" fmla="*/ 8128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2120" y="1981080"/>
            <a:ext cx="28954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arly in the war, the British navy had set up a blockade of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62520" y="1752480"/>
            <a:ext cx="48006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ritai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goal was to intercep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trab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o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defiance of international law, Britain also prevented noncontraband goods, such as food and gasoline, from reaching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581280" y="5029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responded by trying to blockade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5334120" y="15238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-boa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rpedoed ships bound for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4120" y="3124080"/>
            <a:ext cx="3276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May 7, 1915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U-boat sank the British passenger ship </a:t>
            </a:r>
            <a:r>
              <a:rPr b="1" i="1" lang="en-US" sz="2200" spc="-1" strike="noStrike">
                <a:solidFill>
                  <a:srgbClr val="ff3300"/>
                </a:solidFill>
                <a:latin typeface="Verdana"/>
                <a:ea typeface="Arial"/>
              </a:rPr>
              <a:t>Lusitan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f the coast of Ireland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killing many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hsus_ch19_s1_Lusitani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37960" y="1590840"/>
            <a:ext cx="486756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762120" y="1143000"/>
            <a:ext cx="85341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mericans were angry about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usitani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failed to keep its promise t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sink any more passenger 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800600" y="2585880"/>
            <a:ext cx="380988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357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sident Wilson still wanted peace, but he</a:t>
            </a:r>
            <a:r>
              <a:rPr b="0" lang="en-US" sz="2200" spc="-1" strike="noStrike">
                <a:solidFill>
                  <a:srgbClr val="cccc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began to prepare for the possibility of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357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6, Congres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xpanded the army and authorized more war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838080" y="2492280"/>
            <a:ext cx="388620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6"/>
          <p:cNvSpPr/>
          <p:nvPr/>
        </p:nvSpPr>
        <p:spPr>
          <a:xfrm flipH="1" rot="10800000">
            <a:off x="865800" y="1234800"/>
            <a:ext cx="7391160" cy="2346120"/>
          </a:xfrm>
          <a:prstGeom prst="upArrowCallout">
            <a:avLst>
              <a:gd name="adj1" fmla="val 32994"/>
              <a:gd name="adj2" fmla="val 3055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1066680" y="3659040"/>
            <a:ext cx="7010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Zimmermann no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intercepted. In this telegram, Germany tried to forge an alliance with Mexico against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returned to a policy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restricted submarine warfar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inking any ship headed for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19320" y="13716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wo events in 1917 led President Wils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ask Congress to declare war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entral Pow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2057400"/>
            <a:ext cx="7467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the causes of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course and character of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the United States entered the conflict on the side of the Alli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6"/>
          <p:cNvSpPr/>
          <p:nvPr/>
        </p:nvSpPr>
        <p:spPr>
          <a:xfrm flipH="1" rot="10800000">
            <a:off x="865800" y="1491840"/>
            <a:ext cx="7391160" cy="2622600"/>
          </a:xfrm>
          <a:prstGeom prst="upArrowCallout">
            <a:avLst>
              <a:gd name="adj1" fmla="val 29516"/>
              <a:gd name="adj2" fmla="val 27334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19320" y="1722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pril 2, 1917, Wilson asked Congress to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declare war against Germany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aying,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orld must be made safe for democracy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219320" y="43894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responded with a declaration of war on April 6, 1917, and the United States entered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09480" y="1752480"/>
            <a:ext cx="815364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sace-Lorrain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rench region lost to German states in 187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ilitar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lorification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rancis Ferdin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rchduke of Austria-Hungary who was assassinated in 19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illiam I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German emper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estern Fro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−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attle front between the Allies and Central Powers in western Europe during World War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09480" y="1731960"/>
            <a:ext cx="769644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sual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killed, wounded, or missing sold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trab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upplies captured from an enemy during war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-boa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erman submar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usitania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ritish passenger ship sunk by a German U-boat during World War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Zimmermann not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telegram in which the German foreign minister Zimmerman proposed an alliance with Mexico against the United St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523880" y="160020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caused World War I, and why did the United States enter the war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523880" y="2819520"/>
            <a:ext cx="6629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nationalism, militarism, imperialism, and entangling alliances combined to drag Europe into a world w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ited States attempted to remain neutral but abandoned its long tradition of staying out of European confli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7" descr="qlogo"/>
          <p:cNvPicPr/>
          <p:nvPr/>
        </p:nvPicPr>
        <p:blipFill>
          <a:blip r:embed="rId1"/>
          <a:stretch/>
        </p:blipFill>
        <p:spPr>
          <a:xfrm>
            <a:off x="76212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6"/>
          <p:cNvSpPr/>
          <p:nvPr/>
        </p:nvSpPr>
        <p:spPr>
          <a:xfrm>
            <a:off x="4114800" y="5486400"/>
            <a:ext cx="3657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7030"/>
              </a:gs>
              <a:gs pos="100000">
                <a:srgbClr val="d94401"/>
              </a:gs>
            </a:gsLst>
            <a:lin ang="5400000"/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3581280" y="4724280"/>
            <a:ext cx="35434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d8d"/>
              </a:gs>
              <a:gs pos="100000">
                <a:srgbClr val="fe7030"/>
              </a:gs>
            </a:gsLst>
            <a:lin ang="5400000"/>
          </a:gradFill>
          <a:ln w="19080">
            <a:solidFill>
              <a:srgbClr val="fd4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200400" y="3995640"/>
            <a:ext cx="31240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2cc"/>
              </a:gs>
              <a:gs pos="100000">
                <a:srgbClr val="fe8e5c"/>
              </a:gs>
            </a:gsLst>
            <a:lin ang="5400000"/>
          </a:gradFill>
          <a:ln w="19080">
            <a:solidFill>
              <a:srgbClr val="fe8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2666880" y="3271680"/>
            <a:ext cx="25909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f7df"/>
              </a:gs>
              <a:gs pos="100000">
                <a:srgbClr val="fdbd8d"/>
              </a:gs>
            </a:gsLst>
            <a:lin ang="5400000"/>
          </a:gradFill>
          <a:ln w="19080">
            <a:solidFill>
              <a:srgbClr val="fea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85800" y="1295280"/>
            <a:ext cx="73152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five factors made Europe a powder keg ready to expl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1981080" y="255744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f7df"/>
              </a:gs>
              <a:gs pos="100000">
                <a:srgbClr val="f8e292"/>
              </a:gs>
            </a:gsLst>
            <a:lin ang="5400000"/>
          </a:gradFill>
          <a:ln w="9360">
            <a:solidFill>
              <a:srgbClr val="f9c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2438280" y="2514600"/>
            <a:ext cx="57913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a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ilita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rival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mperial amb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70000"/>
              </a:lnSpc>
              <a:spcBef>
                <a:spcPts val="19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gional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838080" y="2438280"/>
            <a:ext cx="7239240" cy="36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ae9"/>
              </a:gs>
              <a:gs pos="100000">
                <a:srgbClr val="e2c5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990720" y="2590920"/>
            <a:ext cx="70102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mong the powers of Europe, nationalism cau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desire to avenge perceived insults and past los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felt national identity centered around a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single ethnic grou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questioned the loyalty of ethnic minor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cial Darwinists applied the idea of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rvival of the fittest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1295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alism, or devotion to one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untry, caused tensions to ri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6"/>
          <p:cNvSpPr/>
          <p:nvPr/>
        </p:nvSpPr>
        <p:spPr>
          <a:xfrm flipH="1" rot="10800000">
            <a:off x="914400" y="1491840"/>
            <a:ext cx="7391520" cy="1692360"/>
          </a:xfrm>
          <a:prstGeom prst="upArrowCallout">
            <a:avLst>
              <a:gd name="adj1" fmla="val 45743"/>
              <a:gd name="adj2" fmla="val 4236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1262160" y="3352680"/>
            <a:ext cx="71625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competition cau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demand for colonies and military b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Africa, the Pacific islands, and Chi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66840" y="1533600"/>
            <a:ext cx="67816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competition for trade and colonies increased nationalistic feel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95280" y="4822920"/>
            <a:ext cx="67820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liances provided</a:t>
            </a:r>
            <a:r>
              <a:rPr b="0" lang="en-US" sz="2200" spc="-1" strike="noStrike">
                <a:solidFill>
                  <a:srgbClr val="cccc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promise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ssis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at made some leaders reckless or overly aggres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9"/>
          <p:cNvSpPr/>
          <p:nvPr/>
        </p:nvSpPr>
        <p:spPr>
          <a:xfrm>
            <a:off x="5638680" y="3048120"/>
            <a:ext cx="3429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ilitarism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mbined with nationalism, led 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 arms r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5800" y="13716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s stockpiled new technology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ing machine guns, mobile artillery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nks, submarines, and airplan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9" descr="HSUS_ch19_s1_MilitaryStrengthGraph"/>
          <p:cNvPicPr/>
          <p:nvPr/>
        </p:nvPicPr>
        <p:blipFill>
          <a:blip r:embed="rId1"/>
          <a:stretch/>
        </p:blipFill>
        <p:spPr>
          <a:xfrm>
            <a:off x="838080" y="2701800"/>
            <a:ext cx="44197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0:14Z</dcterms:modified>
  <cp:revision>164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